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FCA4694-4777-4D42-AD11-E12B9D4562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233566D-ECCE-445A-9C88-86F78A6F8998}"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2E325-7900-4770-B6AD-47219A844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22776-7D08-4474-BF0B-8C24164F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2C5B9-1109-4115-B8DE-E80EB1DC4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5A16D-234C-4721-83A5-6C6CCF08F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37A6D-A097-4302-B5E0-9981D8502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0D16D-784D-45CD-B11D-C99E8CDF9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58C09-807B-4F28-A9DA-D1D288E4B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C53DC-D781-45CC-9236-93EFB98D2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85CB5-09B5-4FC4-803C-9912C85DC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906CC-D0A9-4BAA-B8ED-1D1A4D720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1778D-E9B5-46CD-A50B-B9CD7205D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22256-CCCE-4E6B-944C-D123BAECB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74AC1-F2BA-491A-BE0E-85F0DE94D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4C897-7CD9-473D-98F1-06420BBE1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51149-EBC0-4D6E-A5C0-AB039FDF1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108ED-21A1-47A8-84BC-7A2AB3318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C5F8E-8074-4203-A9C5-DE70B4701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9E777-3D55-4885-A0CD-6090A237B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69D22-2458-4FB9-90E3-CE309E7ED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14A2A-CE0D-4144-8D16-EE4C7B665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41CBD-786B-4DEF-BF74-A9115EEE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D87F1-3F4B-45A4-BC49-CBC788E79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2DBE6-641A-4757-BD6C-9D1B8E498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AD33A-529A-497C-A9F0-467034004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3 October 2014</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A3B5-D0AA-44E3-BE20-A0B0D326861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3 October 2014</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7B5F-DE83-4F57-8F3D-5E35AD2FD058}"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DAF9-2DD7-42EB-A918-54E224DBCA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F741-4534-4865-8D63-CDD38299B1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561E-E317-40F4-8FAB-36FCFA175E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BC20-F8FE-4751-8A09-FB3DECD31D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9EC4-71D4-4948-BFF3-0209E17FAC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7E20-EC20-4FFB-8909-863447E033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8262-2599-4229-8145-9D526F379F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66DF-C77A-44CE-B134-485AFCC444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B821-A72B-4030-996E-D58E91C4FE7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DB4D-0FF6-4EFB-8B6D-56621E5D87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C9A4-364E-410A-847A-85CD92A7BE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E0E3-EADD-4D00-B9F0-5E88E3B854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7429-F39F-415E-8EF7-F7A7469B7C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9459-96A6-48DB-B16E-147D3BB8A5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37DC-A469-43CA-BBA4-ED29D65AF7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8DD5-9976-4A1C-A880-BA48DF40E4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9C10-7006-4436-9E60-57B9FE9E10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BEA7-3606-4D0D-8531-9E9F02D143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98CE-4A37-4D0F-9362-B37DE63959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4F60-3CD7-429B-B733-9C968704D0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C5C2-9AB1-49B6-BBD3-14349CD37D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BB61-0243-402B-95A7-A0E165E734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13B7-BB8A-4999-B837-349194FB7E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F6EF-0CC7-4C39-9F9B-29EE72E347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87E2-6449-4C90-95B9-298DD1D15B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12AA-100F-4B96-8532-D098FE07E2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1358-F2FC-4225-A029-F092186841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477B-5FB5-4D6A-A987-C82A613386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75D6-E2DC-403E-86A3-C11FBD4CAB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433D-9F0B-46D6-832B-1B5BE35ABB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A966-C991-42A7-8725-836618152A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7CDD-6851-4213-AADD-E77EE64807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EA97-4501-4C94-B0A7-4D8548251D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1E88-356F-4F20-99FF-024CA58401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D6D6-54FA-41C9-AD7A-5FFD88F889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F103-608C-4342-B73E-8DE9A6B2D6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6</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6107-C018-4BC4-AF75-78958CE238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D409-47A4-4B7B-A15E-61CE7E5397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399A-C800-4787-A0B5-58FB8972C56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EE56-99FB-4316-947F-B046CD69E0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075A-6DE2-4D48-9909-E7B5902A80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4-10-16T13:39:45Z</dcterms:modified>
  <cp:revision>64</cp:revision>
  <dc:subject/>
  <dc:title>Aims and Objectives</dc:title>
</cp:coreProperties>
</file>